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9A9-7FDB-4655-9942-325BAF1F57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8E8F-0D2A-403A-800C-0177CB7B3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83F-10F7-4210-8BFD-A7457235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D3A-E7B3-4580-A92A-18C140F0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C8C-EFE9-4333-9F74-6E9A8D51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C98-1A17-4B87-A01D-98CC1521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37E-7469-4F76-B1FF-371A0B16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5CED-C9DE-4C11-B6A1-9F57724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A65-E3E3-4C7B-A2C9-7EAC6E2D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73FD-1E99-46AC-B559-6C57DF2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E129-F089-4DB0-971D-F55939BA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68B-3477-403E-95D9-DFEEF28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83E0-3085-450F-8014-2F4F0F8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74C-C43C-4F0B-8812-5AC7951B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996A-46C4-4745-B972-F4AC00B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14C8-EC1B-49CF-87D7-3600F9C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6A35-B894-4126-A882-38DD4137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7CB-2C21-4659-8BC0-CD0A61E2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1063-3093-4A2B-9B0A-CDE018D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4AB9-DF69-4F89-A6DD-2D4A4A9D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F679-8520-4975-9650-DB658EE6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74FB-47F6-486C-92E5-7A791A8E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09C3-58F5-4E2C-990E-A9DD7EC9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A656-52B2-4B38-BEF8-755887BA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D33-E94A-42A9-A7BC-BBB4DAD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776C-0201-4953-8B4C-24771654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A7A7-3C50-4D18-9E36-06151CF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7912-9B7A-4365-BD7A-ACFF553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CE96-F0D9-444A-B815-AA81ECB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E059-8DF6-4877-BD84-F02F757D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DB8A-5AF7-4B3C-A434-1693C696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1116-6AA5-4FC2-89CB-99D57EB1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AFBE-8359-483A-A3EA-63A4DDF2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FFA2-B612-49C7-8859-9C35CEA1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BAC0-E0DD-4299-8E21-A2513FD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DDC-506B-433B-B60F-5267A1C9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117F-81BA-4D93-B37F-BCCAFA6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92E8-FF49-4FF9-8923-CAFDBBB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A207-C305-4B7F-B185-DFD8B8DC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97F2-63B7-45E6-92B6-BBE8522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C4FE-1938-4E27-8DC0-66AEE5B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BD43-D56C-4CA6-B874-079F430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541F-57C5-4812-8117-F98F224E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8E3E-CCEF-45B2-AEBF-A56E8B60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FE60-00C7-4804-997F-CB7950EB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EF98-13E1-4318-9CAE-E571F67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DF2-12F4-4AF1-857E-E9F4CB4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6E89-9ECE-43FF-B16F-EFCC957A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316D-7988-406B-8A5C-F68781F8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73AA4-C8FD-47C2-9D4F-F1E3043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FB976-4384-4601-92D4-0FBAABC3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2B01-040A-4D93-8A74-16A93653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69D73-60CF-4EA6-A3F5-43C65E6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8EC0-E987-4E76-A562-29FA95C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B8BF8-D0E9-4E99-8A7A-ECF4B3F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1D605-BD66-485B-9C32-A9367FD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3836-DF13-4B63-9CF2-AC567F31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71F-070C-44C9-B724-A5C29111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45CD-819F-4780-A0CC-4F00DE76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C43-FE6A-49BE-A81F-ED09E24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2DA-A063-41EE-91E9-30AAEF8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0D6-1666-4251-93AB-97DC7CD5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B153-7D74-4160-896D-11C1726591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D827-6BFD-48B7-A2F4-3291129718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0CC6-2241-4E31-9129-FB1B2ABB97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184C-DFE1-446E-B538-EF7C592FCD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891-BCF4-4D26-9E22-AF6B3B6C89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59680" cy="33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ГОРОДСКОЙ СЕМИНАР-ПРАКТИКУМ</a:t>
            </a: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«ФОРМЫ ПРОВЕДЕНИЯ ОБРАЗОВАТЕЛЬНОЙ ДЕЯТЕЛЬНОСТИ В СООТВЕТСТВИИ С  ФГОС ДО»</a:t>
            </a:r>
            <a:endParaRPr b="0" lang="en-US" sz="32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4240" y="471492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Times New Roman"/>
              </a:rPr>
              <a:t>Категория участников:</a:t>
            </a:r>
            <a:r>
              <a:rPr b="0" lang="ru-RU" sz="2400" spc="-1" strike="noStrike" u="sng">
                <a:solidFill>
                  <a:srgbClr val="eeece1"/>
                </a:solidFill>
                <a:uFillTx/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заместители заведующего по УВР, старшие воспитател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ece1"/>
                </a:solidFill>
                <a:uFillTx/>
                <a:latin typeface="Times New Roman"/>
              </a:rPr>
              <a:t>29 апреля 2014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684360" y="5349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ДЕТСКИЙ САД № 174  «ЯГОДКА» Г. АРХАНГЕ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2"/>
          <p:cNvSpPr/>
          <p:nvPr/>
        </p:nvSpPr>
        <p:spPr>
          <a:xfrm>
            <a:off x="8317080" y="800280"/>
            <a:ext cx="323640" cy="32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083360" y="54936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УСЛОВИЯ ПРОВЕДЕНИЯ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3" name="Схема 4" descr=""/>
          <p:cNvPicPr/>
          <p:nvPr/>
        </p:nvPicPr>
        <p:blipFill>
          <a:blip r:embed="rId1"/>
          <a:stretch/>
        </p:blipFill>
        <p:spPr>
          <a:xfrm>
            <a:off x="304920" y="1249200"/>
            <a:ext cx="85341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РАБОТЫ ГОСТИНЫХ 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5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ритерии оценка эффективности работы гостиной (фотки с пультами, смайлики, шарики)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7" name="Объект 4" descr=""/>
          <p:cNvPicPr/>
          <p:nvPr/>
        </p:nvPicPr>
        <p:blipFill>
          <a:blip r:embed="rId1"/>
          <a:stretch/>
        </p:blipFill>
        <p:spPr>
          <a:xfrm>
            <a:off x="420840" y="1547640"/>
            <a:ext cx="8285040" cy="36943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539640" y="53118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по данным критериям возможно проследить в двух направл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 наблюдение во время подготовки и проведения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 анализ отзывов о данных меро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Обобщение и распространение опыта работы в 2013-2014 уч.г.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268200" y="1414440"/>
            <a:ext cx="87534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921440" cy="19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ЕДАГОГИЧЕСКИЕ ОСНОВЫ ОРГАНИЗАЦИИ ГОСТИНЫХ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КАК ФОРМЫ ПРОВЕДЕНИЯ ОБРАЗОВАТЕЛЬНОЙ ДЕЯТЕЛЬНОСТИ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2" name="Picture 2" descr="E:\DSC_0811.JPG"/>
          <p:cNvPicPr/>
          <p:nvPr/>
        </p:nvPicPr>
        <p:blipFill>
          <a:blip r:embed="rId1"/>
          <a:stretch/>
        </p:blipFill>
        <p:spPr>
          <a:xfrm>
            <a:off x="212760" y="3438360"/>
            <a:ext cx="4183200" cy="6077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D:\куперман 2013-2014\зубова\DSC_5652.JPG"/>
          <p:cNvPicPr/>
          <p:nvPr/>
        </p:nvPicPr>
        <p:blipFill>
          <a:blip r:embed="rId2"/>
          <a:stretch/>
        </p:blipFill>
        <p:spPr>
          <a:xfrm>
            <a:off x="4383000" y="3498840"/>
            <a:ext cx="447984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Формы работы</a:t>
            </a:r>
            <a:endParaRPr b="0" lang="en-US" sz="5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243080" y="1542960"/>
            <a:ext cx="6657840" cy="4950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 rot="16200000">
            <a:off x="-1703160" y="3673080"/>
            <a:ext cx="4856400" cy="703800"/>
          </a:xfrm>
          <a:prstGeom prst="rect">
            <a:avLst/>
          </a:prstGeom>
          <a:solidFill>
            <a:srgbClr val="4f81bd"/>
          </a:solidFill>
          <a:ln w="26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ОРМЫ МЕТОД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 rot="5400000">
            <a:off x="6099840" y="3673080"/>
            <a:ext cx="4856400" cy="703800"/>
          </a:xfrm>
          <a:prstGeom prst="rect">
            <a:avLst/>
          </a:prstGeom>
          <a:solidFill>
            <a:srgbClr val="4f81bd"/>
          </a:solidFill>
          <a:ln w="26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ОРМЫ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ГОСТИНАЯ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9" name="Объект 3" descr=""/>
          <p:cNvPicPr/>
          <p:nvPr/>
        </p:nvPicPr>
        <p:blipFill>
          <a:blip r:embed="rId1"/>
          <a:stretch/>
        </p:blipFill>
        <p:spPr>
          <a:xfrm>
            <a:off x="438120" y="1365120"/>
            <a:ext cx="8315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ГОСТИНАЯ 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1" name="Объект 3" descr=""/>
          <p:cNvPicPr/>
          <p:nvPr/>
        </p:nvPicPr>
        <p:blipFill>
          <a:blip r:embed="rId1"/>
          <a:stretch/>
        </p:blipFill>
        <p:spPr>
          <a:xfrm>
            <a:off x="450720" y="1554120"/>
            <a:ext cx="8242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пыт работы </a:t>
            </a: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МБДОУ Детского сада № 174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3" name="Объект 3" descr=""/>
          <p:cNvPicPr/>
          <p:nvPr/>
        </p:nvPicPr>
        <p:blipFill>
          <a:blip r:embed="rId1"/>
          <a:stretch/>
        </p:blipFill>
        <p:spPr>
          <a:xfrm>
            <a:off x="208080" y="1652760"/>
            <a:ext cx="8807400" cy="47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F:\гостинная2\план.jpg"/>
          <p:cNvPicPr/>
          <p:nvPr/>
        </p:nvPicPr>
        <p:blipFill>
          <a:blip r:embed="rId1"/>
          <a:stretch/>
        </p:blipFill>
        <p:spPr>
          <a:xfrm rot="20917800">
            <a:off x="762120" y="2752200"/>
            <a:ext cx="4309920" cy="30783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5" descr=""/>
          <p:cNvPicPr/>
          <p:nvPr/>
        </p:nvPicPr>
        <p:blipFill>
          <a:blip r:embed="rId2"/>
          <a:stretch/>
        </p:blipFill>
        <p:spPr>
          <a:xfrm rot="592200">
            <a:off x="4610160" y="1628280"/>
            <a:ext cx="4286160" cy="32544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Нормативно-правовая база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7" name="Объект 3" descr=""/>
          <p:cNvPicPr/>
          <p:nvPr/>
        </p:nvPicPr>
        <p:blipFill>
          <a:blip r:embed="rId3"/>
          <a:stretch/>
        </p:blipFill>
        <p:spPr>
          <a:xfrm>
            <a:off x="615960" y="1517760"/>
            <a:ext cx="80773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Принципы организации  гостиной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426960" y="1017720"/>
            <a:ext cx="843120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ФУНКЦИИ УЧАСТНИКОВ ГОСТИНОЙ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51" name="Схема 5" descr=""/>
          <p:cNvPicPr/>
          <p:nvPr/>
        </p:nvPicPr>
        <p:blipFill>
          <a:blip r:embed="rId1"/>
          <a:stretch/>
        </p:blipFill>
        <p:spPr>
          <a:xfrm>
            <a:off x="450720" y="1249200"/>
            <a:ext cx="846144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9:59:18Z</dcterms:created>
  <dc:creator>SamLab.ws</dc:creator>
  <dc:description/>
  <cp:keywords>"PowerLexis" - Презентационное агентство</cp:keywords>
  <dc:language>en-US</dc:language>
  <cp:lastModifiedBy>User</cp:lastModifiedBy>
  <dcterms:modified xsi:type="dcterms:W3CDTF">2014-06-19T06:57:03Z</dcterms:modified>
  <cp:revision>189</cp:revision>
  <dc:subject/>
  <dc:title>Слайд заставка</dc:title>
</cp:coreProperties>
</file>